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928-4109-4C9D-88BB-387EBA2C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04A-1901-40FD-B867-C151A5E6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CCF-C990-41F1-8B81-0277EA94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1FE-4998-4820-A67A-F309EF8A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3B7-79B7-44A0-B82E-CC604001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8C6-EE08-475F-9D45-61547B71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FE9-018A-4C8A-A9A1-A011645B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249-D9D3-4C0D-996C-6D5D3A6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E18-8C79-4DC2-964B-0CC429C9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0E5-1C2D-466D-9CCC-1A613CF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90B-A61C-4318-A5F5-EB3D17B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553-0D5C-4CAC-93B2-8F85FEB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D592-2AC0-41D2-8C73-80141C32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RECTIONALIT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3:16Z</dcterms:modified>
  <cp:revision>99</cp:revision>
  <dc:subject/>
  <dc:title>The Art in the State of the Art</dc:title>
</cp:coreProperties>
</file>